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9B81-0B5D-4AD4-AE5F-FE0FE3A20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in Ag class could actually complete each of the activities to determine the phenotype outcome and help them learn genetic principles. After doing the activities – theoretically and experimentally – students can identify which method demonstrated each type of probability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E75A-5A62-403B-960C-EF71FD11D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1C9D-19AE-4111-8F95-028654205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EC64-04F1-4784-BF45-560F9D52BB5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C0D28-AB59-4FF0-B677-0F0C89A0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30218-9828-49F8-9F19-AAD68EF5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A2639-EABD-43AE-A549-CBD078E6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AC232-7C21-48E0-A2C5-3D18E4B9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58DFB-674A-4284-9A35-EBC15891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B70E0-F333-436C-821F-7080E1FE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E14E6-69EA-4A3C-98A7-36636610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BB653-3DF8-4A94-97AD-6498E4F8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8EA62-CA3F-4361-B74B-0F9B27B6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5E20D-6A1F-46F2-98E6-CA8AA1E6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18E5-B5BB-4493-8D7A-EEFD22A5574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D0158-3B41-49F8-AC5E-A0877400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EFB67-D11B-4B6C-B185-BA72F7DA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F008F-E5EA-4AFE-ABF1-4C022C8A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46ACF-DB73-4ACD-8FFC-D2657C5D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60A56-16DE-41A0-A644-F84AB18B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44E7B-FB4A-4FD9-933D-97E21DA3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5C45B-DD1F-4A03-998C-293E64C7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A3ECC-4150-4241-BFDA-D8B2690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74B3D-BB55-4E34-966A-D4C59674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F418D-8D99-497D-B6C0-5239BAFA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8A24-700E-4C2F-89C9-565DA7FC488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8C44F-6193-49AA-B18B-008826F0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90AEE-53DD-4605-867B-C85BE2E5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24BD1-568C-4017-87C2-F35F6C6F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6C169-E647-4E69-A109-8FEC970F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2FEF7-878C-4110-B8F8-0CE71599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4300D-0447-4437-AF5E-62C516EE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0990D-7F5F-4E8B-B353-C3F4CFD1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173FA-06AD-4128-87C0-10DDB742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8CF2D-C929-499A-B49E-A48B49A0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E1BF3-5D08-4ECD-B317-338CEF79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AE1-4247-478F-9A41-E4AED55806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A7432-E423-408F-91EF-EFC443A7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29E84-AC7A-4E5B-8326-D74D847D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1FBF0-DB8E-445E-AB61-6185DBC2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EB1C6-FBAA-4FFF-AF46-943E947C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01777-5F28-47CB-8936-B4DAD08D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68013-C5F4-4551-B10D-799DE86E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4DE45-7345-429B-8C3E-ECE6856A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228B3-E6D5-4A45-9766-53044E0A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DCC16-364F-400D-A782-801FD15C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86D06-BF3B-49B5-9706-8337FC5A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066-63C6-453D-AB5D-2E5CFCD3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1E878-B643-4D2F-BAA0-C5227A6A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A4C33-DD04-460C-B866-BC8456D2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0E7C4-27AA-4F37-8F00-EC3736EF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DC924-9E89-471E-AA8B-FE791C41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6ECD0-BCE8-43BF-A469-39BE392F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880-E602-4EFF-AAAD-F663A6B0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DED-B20E-4612-A22B-4F32C892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70E-AB42-41DC-95AC-EF648964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644-BAD4-45F7-BF6F-15C15E42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66A-B4A4-4E25-9DBC-9C1F028B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F14E-6A7F-4E5A-AC18-030D03DA1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EE6-1A4A-40A5-BE1E-969FF9C2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2D2-737A-4C33-879A-150FD799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8CF-57D3-44DD-B0BB-4C7D3204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81E-956A-4D21-987B-FD419A56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6A7-93E3-4897-8D92-E2AE5BD6CC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300B-BA0E-4B94-B13D-57178FD4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3C50-B020-48F6-B2B6-CEC128BF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0D57-5000-4334-8B99-F5E3152B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B9C3-3085-4393-BF07-7ECEEE12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4ECF-449E-4E18-94C0-F7419436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3474-4ADA-4005-B22A-405B7B5FC5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0377-3AE5-4B4B-9949-7C6B953E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9CC0-F9BA-4F18-BC92-490505CA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B68A-9098-4430-BF6B-92DAC1BC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E6FA-D838-4691-A4BE-FB73F5CB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7BAC-7F41-439C-8CD6-60C5AF8C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E49A-2652-4E7E-B587-3A33E0C5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1E4F-23E3-4523-ABB9-F0FF1D4C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CFBA1-E90A-4167-AE04-9D04E18D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89E0-1D76-4919-84D0-E26A06DE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617A-71B6-4228-A5B0-E52C8C02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9BB9-584D-44AD-8E17-3186AA719C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75E2-8EEB-406A-BA95-22F5FE82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F3BA-2FE1-4B6E-A318-F5C135FC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CAB29-DC6A-49F6-965D-686464C5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6964-D8F9-4C36-ABD1-4C8D0265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9DF4-50BB-4422-B2BF-E41323F8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277CD-8BCC-4E8E-B46C-EFC09472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C6E87-57E3-425A-A617-C57E3A97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3C20-85E5-4446-8A3E-9E75238B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24D0-FE47-41D7-A1FD-19398592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9667-D1A6-41C1-804D-F7BFDA30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CDAC-F54D-45A2-93D1-2D973FAE2AF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467A0-E569-4FA7-AADE-8954021A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1D82-75B9-43C5-9E27-5FE07480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ECB41-4C1C-4AF0-BCE7-67BDC5FC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E4D78-4D98-46FF-B8C3-39087B16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AC35D-19DB-4614-B20B-04631055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B3A39-74E5-491D-9088-49E1C8DB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6C7A4-5394-4D20-8491-B18AC9E2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2CF2F-EF37-4EB9-8817-93F5CA63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260BC-E955-4A89-B058-ED2C2550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78EB-9E6B-4400-A830-AEEEB785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8100-3ED4-44B0-97AA-D70B060614B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2929F-F767-4F47-B2E8-A9416DD3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AE387-AE09-4824-801C-4EB2DBD9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D4FFF-3342-4219-8BA2-77C1C87A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B3ABA-EE55-4208-8B89-AB9DBD94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DE3FF-3B05-4CDD-BDCF-A175DBFE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1F1BE-DA28-44B3-88B8-0E984E66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29A4F-14B9-4D53-9522-BB0C72D0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CAB34-5DE0-401D-A5B8-9B654DA8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9D8B2-B0CD-4F0E-82DB-195DBBEB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A2D22-ADDA-4E93-8765-097D63CB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1AFD-CF58-420C-96A3-8D9A630041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1837C-8DC8-4FE3-8FB9-9A2E1C1C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E0677-82C2-4B7B-BCF9-FF730E6E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00C1F-80D9-4542-96AA-401197FE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6D188-ADD7-4228-A863-250F9EB6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BD774-1279-4FCA-A062-2179BD78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4E364-BE5A-4D34-B817-97A108CC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D390A-D6CA-4CE5-9F9C-D5E56F6B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8A585-6A66-4D99-BE24-5F826037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E78F7-6327-4497-87CF-242A3E94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F321C-E4AC-4044-A4BC-F74894D8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F31D-4E89-451B-964F-AD82F3B55A1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E8783-A326-424F-B797-537290E3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9D786-3AB0-438F-8FA9-807E255E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1E68A-E222-42E4-94CB-6D5A89B1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80485-AFD7-4980-A2DB-6E1CD00A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E0608-7F58-4E37-BCA0-5F02E2FA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BBA04-A258-4807-A8FD-11C182B9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6A182-0223-49F0-8DA0-015A7EB8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03533-F2A5-4FD7-AFAE-93AE38C5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1FC8F-898C-4AC3-BF60-9ED957E4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C74EF-61EF-4701-8A85-F032B4A5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E9E9-CD3C-42DB-93AF-0A93316C51F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142B1-DC59-4585-9F03-7330AFA2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5FA5C-0B84-4D44-A6BE-47269C50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F672D-EA17-427C-810F-9A64E60B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DD1C5-2BD9-418C-A876-82FF967C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B02B7-976F-47BD-A97D-6E1D864C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8DBFA-624B-4A2F-9F11-3DB93401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74FD8-4601-4BBE-A1B9-2FE29060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DF1E6-B1C4-4901-827E-86230967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E6CE3-9183-4011-A300-9E07F0C3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A827B-D46C-4D19-BA6B-7050DB84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E728-C139-43E2-86C0-B26F6E0A107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3748-6F52-49CC-96F7-504AACBF98B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F028-2E4A-4750-8490-02896A624CA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A0A2-1B4B-4D0D-8A97-647E2A628BA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8B20-7B35-4BE1-B872-4BAB946EFBFB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FDB6-906A-4CF1-B63A-D253887F60B2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074A-0E7E-440D-809E-33E84FA2CB63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794D-433B-4C9F-AC90-6E3CEA522573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812D-0CAD-476B-8A26-B9E856B63D1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5001-57C7-4B36-AAEB-6697058B57EC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8D32-9047-4B99-BABF-19607428B9F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6710-7DB0-4E08-8840-05EC23765EFA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6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Verdana"/>
              </a:rPr>
              <a:t>Experimental probability. This would involve an actual experiment being conducted to determine the ratios of phenotype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Verdana"/>
              </a:rPr>
              <a:t>Theoretical probability. The theoretical probability formula would be used for this activity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ich activity represents theoretical probability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Make a list of likely results and calculate the probability of one plant producing four tomato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Grow many tomato plants, record the number of tomatoes produced by each one, and record the probability of one plant producing four tomato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A. The first activity shows how a theoretical ratio could be found without an actual experiment being conducted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ich activity represents experimental probability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Name the probable outcomes, and write the probability of having a white mouse after breeding two black mice togeth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Breed several black mice to other black mice, record the number of white offspring, and write the probability of having a white mous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B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ich activity represents theoretical probability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reate a sample space of probable outcomes, and write the probability of producing a normal rabbit after mating an albino rabbit with a brown rabbi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Mate an albino rabbit with a brown rabbit, record the number of normal (non albino) rabbits, and write the probability of having a normal rabbi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A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Animal Science students distinguish between experimental and theoretical probability as it relates to genetic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undamental Animal Science—AN4.3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edict genetic outcome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Determine genotype and phenotype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-12.S.2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are able to distinguish between experimental and theoretical probability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obability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Likelihood an event will occur expressed as a ratio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perimental probability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nduct an experiment to determine probabilit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oretical probability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Use equation to determine probabilit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295280" y="2593800"/>
            <a:ext cx="6858000" cy="642600"/>
          </a:xfrm>
          <a:prstGeom prst="rect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Experimental probability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Number of event occurre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Number of total 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1295280" y="4459320"/>
            <a:ext cx="6858000" cy="642600"/>
          </a:xfrm>
          <a:prstGeom prst="rect">
            <a:avLst/>
          </a:pr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Theoretical probability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Number of favorable outcom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Number of total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Determine which of the two activities represents experimental probability: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Roll two dice many times, record the sums, and write the probabilities of different sums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Create a sample space of all possible outcomes and write the probabilities of different sums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Verdana"/>
              </a:rPr>
              <a:t>Experimental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Verdana"/>
              </a:rPr>
              <a:t>Theoretical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ich activity represents theoretical probability? Which activity represents experimental probability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Mate a Hereford bull with twenty Angus heifers, record the calves’ phenotypes, and write the probabilities of different phenotyp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reate a sample space of probable outcomes and write the probabilities of different phenotyp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8-05T15:53:20Z</dcterms:modified>
  <cp:revision>18</cp:revision>
  <dc:subject/>
  <dc:title>South Dakota Ag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50187263</vt:r8>
  </property>
  <property fmtid="{D5CDD505-2E9C-101B-9397-08002B2CF9AE}" pid="3" name="_AuthorEmail">
    <vt:lpwstr>Tiffany.Sanderson@state.sd.us</vt:lpwstr>
  </property>
  <property fmtid="{D5CDD505-2E9C-101B-9397-08002B2CF9AE}" pid="4" name="_AuthorEmailDisplayName">
    <vt:lpwstr>Sanderson, Tiffany</vt:lpwstr>
  </property>
  <property fmtid="{D5CDD505-2E9C-101B-9397-08002B2CF9AE}" pid="5" name="_EmailSubject">
    <vt:lpwstr>AFNR Integration Strategies</vt:lpwstr>
  </property>
</Properties>
</file>